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8AA3-01D4-4ADA-8E98-90D190E53F0A}" type="datetime">
              <a:rPr b="0" lang="en-US" sz="1200" spc="-1" strike="noStrike">
                <a:solidFill>
                  <a:srgbClr val="ffffff"/>
                </a:solidFill>
                <a:latin typeface="Gill Sans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F38B-5767-46D5-90B8-2E57747AF1E1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CCBC-ED9B-49BF-8C0E-428F72CA9B7A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1333-9CF7-4262-B64B-92F72AD8131C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1DE5-2EFB-43A2-8907-58D2DDA29C9F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C8F7-C6B4-4FF5-AF25-72777347C89F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2612-E929-4DDC-B0EE-531AF0BF6F1A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5CA1-8C39-49E1-BC55-930FE1AE311F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6383-E6FF-4B1E-9C32-5C2091B4E134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504E-6B64-42B3-A422-C1C6976B2726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70A0-873A-4DD6-9000-FA44A9336C09}" type="slidenum">
              <a:rPr b="0" lang="en-US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marL="88920" indent="-889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marL="88920" indent="-889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marL="88920" indent="-889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marL="274320" indent="-27432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marL="274320" indent="-27432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marL="274320" indent="-27432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15560" y="1739880"/>
            <a:ext cx="110235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00f5"/>
                </a:solidFill>
                <a:latin typeface="Calibri Bold"/>
              </a:rPr>
              <a:t>Action Research Projec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42640" y="492768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ff00"/>
                </a:solidFill>
                <a:latin typeface="Calibri"/>
              </a:rPr>
              <a:t>Agnes Irwin Schoo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15640" y="253800"/>
            <a:ext cx="12573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e00ff"/>
                </a:solidFill>
                <a:latin typeface="Calibri Bold"/>
              </a:rPr>
              <a:t>Action Research Projec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851040" y="3619440"/>
            <a:ext cx="1129032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ff4"/>
                </a:solidFill>
                <a:latin typeface="Calibri Bold"/>
              </a:rPr>
              <a:t>Professional development</a:t>
            </a:r>
            <a:r>
              <a:rPr b="1" lang="en-US" sz="4000" spc="-1" strike="noStrike">
                <a:solidFill>
                  <a:srgbClr val="fefff4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efff4"/>
                </a:solidFill>
                <a:latin typeface="Calibri"/>
              </a:rPr>
              <a:t>- how to scale/spread what the team has learned with the rest of the faculty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851040" y="6095880"/>
            <a:ext cx="1129032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fff4"/>
                </a:solidFill>
                <a:latin typeface="Calibri Bold"/>
              </a:rPr>
              <a:t>Instructional</a:t>
            </a:r>
            <a:r>
              <a:rPr b="1" lang="en-US" sz="4000" spc="-1" strike="noStrike">
                <a:solidFill>
                  <a:srgbClr val="fefff4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efff4"/>
                </a:solidFill>
                <a:latin typeface="Calibri"/>
              </a:rPr>
              <a:t>- co-develop a cross-curricular project (PBL or Inquiry) unit of study that is co-taught by team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Oval 4"/>
          <p:cNvSpPr/>
          <p:nvPr/>
        </p:nvSpPr>
        <p:spPr>
          <a:xfrm>
            <a:off x="152280" y="3048120"/>
            <a:ext cx="12700080" cy="2666880"/>
          </a:xfrm>
          <a:prstGeom prst="ellipse">
            <a:avLst/>
          </a:prstGeom>
          <a:noFill/>
          <a:ln w="63360">
            <a:solidFill>
              <a:srgbClr val="00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55320" y="203040"/>
            <a:ext cx="1257300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e00ff"/>
                </a:solidFill>
                <a:latin typeface="Calibri Bold"/>
              </a:rPr>
              <a:t>Action Research “Problems”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54160" y="2234880"/>
            <a:ext cx="12484080" cy="718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How can we increase project-based learning among our faculty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How can we promote methods of student learning facilitated by technology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How can we support teachers who are uneasy or uncomfortable with new tools and new approaches to student learning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How can we maximize “buy-in” among faculty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400ff"/>
                </a:solidFill>
                <a:latin typeface="Calibri Bold"/>
              </a:rPr>
              <a:t>“</a:t>
            </a:r>
            <a:r>
              <a:rPr b="0" lang="en-US" sz="8400" spc="-1" strike="noStrike">
                <a:solidFill>
                  <a:srgbClr val="f400ff"/>
                </a:solidFill>
                <a:latin typeface="Calibri Bold"/>
              </a:rPr>
              <a:t>Tech Crawl 2011”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91600" y="2146320"/>
            <a:ext cx="1240812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in-house professional development even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open forum for sharing </a:t>
            </a:r>
            <a:r>
              <a:rPr b="0" lang="en-US" sz="4200" spc="-1" strike="noStrike">
                <a:solidFill>
                  <a:srgbClr val="ffffff"/>
                </a:solidFill>
                <a:latin typeface="Calibri Bold Italic"/>
              </a:rPr>
              <a:t>project-based learning</a:t>
            </a: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 idea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encourage 21st century skill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teachers teaching teache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all divisions particip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fun atmosphe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8742240" y="4740120"/>
            <a:ext cx="2984760" cy="425448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4"/>
          <p:cNvSpPr/>
          <p:nvPr/>
        </p:nvSpPr>
        <p:spPr>
          <a:xfrm>
            <a:off x="3447720" y="8723520"/>
            <a:ext cx="48776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ffff"/>
                </a:solidFill>
                <a:latin typeface="Calibri Italic"/>
              </a:rPr>
              <a:t>mascot for the crawl </a:t>
            </a: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Line 5"/>
          <p:cNvSpPr/>
          <p:nvPr/>
        </p:nvSpPr>
        <p:spPr>
          <a:xfrm flipV="1">
            <a:off x="7899480" y="7238880"/>
            <a:ext cx="838080" cy="1346400"/>
          </a:xfrm>
          <a:prstGeom prst="line">
            <a:avLst/>
          </a:prstGeom>
          <a:ln w="50760">
            <a:solidFill>
              <a:srgbClr val="14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"/>
          <p:cNvSpPr/>
          <p:nvPr/>
        </p:nvSpPr>
        <p:spPr>
          <a:xfrm>
            <a:off x="602280" y="305640"/>
            <a:ext cx="21358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identify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proble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5231160" y="305640"/>
            <a:ext cx="17409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collect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dat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9198000" y="247680"/>
            <a:ext cx="369576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analyze data/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form hypothesi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9542160" y="8148240"/>
            <a:ext cx="30074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plan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action step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4595760" y="8306640"/>
            <a:ext cx="30074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implement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action step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207360" y="8306640"/>
            <a:ext cx="26175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analysis &amp;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evalu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292320" y="4236480"/>
            <a:ext cx="24649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spiral to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aff00"/>
                </a:solidFill>
                <a:latin typeface="Calibri Bold"/>
              </a:rPr>
              <a:t>next cyc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3079800" y="2616120"/>
            <a:ext cx="60325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400ff"/>
                </a:solidFill>
                <a:latin typeface="Calibri Bold"/>
              </a:rPr>
              <a:t>“</a:t>
            </a:r>
            <a:r>
              <a:rPr b="0" lang="en-US" sz="6100" spc="-1" strike="noStrike">
                <a:solidFill>
                  <a:srgbClr val="f400ff"/>
                </a:solidFill>
                <a:latin typeface="Calibri Bold"/>
              </a:rPr>
              <a:t>Tech Crawl 2011”</a:t>
            </a:r>
            <a:endParaRPr b="0" lang="en-US" sz="6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Line 9"/>
          <p:cNvSpPr/>
          <p:nvPr/>
        </p:nvSpPr>
        <p:spPr>
          <a:xfrm flipH="1">
            <a:off x="7340760" y="952560"/>
            <a:ext cx="1536480" cy="12600"/>
          </a:xfrm>
          <a:prstGeom prst="line">
            <a:avLst/>
          </a:prstGeom>
          <a:ln w="76320">
            <a:solidFill>
              <a:srgbClr val="00ec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" name="Line 10"/>
          <p:cNvSpPr/>
          <p:nvPr/>
        </p:nvSpPr>
        <p:spPr>
          <a:xfrm>
            <a:off x="1523880" y="2095560"/>
            <a:ext cx="0" cy="1625400"/>
          </a:xfrm>
          <a:prstGeom prst="line">
            <a:avLst/>
          </a:prstGeom>
          <a:ln w="76320">
            <a:solidFill>
              <a:srgbClr val="00ec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Line 11"/>
          <p:cNvSpPr/>
          <p:nvPr/>
        </p:nvSpPr>
        <p:spPr>
          <a:xfrm flipV="1">
            <a:off x="7696080" y="8926560"/>
            <a:ext cx="1562400" cy="14400"/>
          </a:xfrm>
          <a:prstGeom prst="line">
            <a:avLst/>
          </a:prstGeom>
          <a:ln w="76320">
            <a:solidFill>
              <a:srgbClr val="00ec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Rectangle 12"/>
          <p:cNvSpPr/>
          <p:nvPr/>
        </p:nvSpPr>
        <p:spPr>
          <a:xfrm>
            <a:off x="3086280" y="6095880"/>
            <a:ext cx="603216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400ff"/>
                </a:solidFill>
                <a:latin typeface="Calibri Bold"/>
              </a:rPr>
              <a:t>“</a:t>
            </a:r>
            <a:r>
              <a:rPr b="0" lang="en-US" sz="6100" spc="-1" strike="noStrike">
                <a:solidFill>
                  <a:srgbClr val="f400ff"/>
                </a:solidFill>
                <a:latin typeface="Calibri Bold"/>
              </a:rPr>
              <a:t>Tech Crawl 2012”</a:t>
            </a:r>
            <a:endParaRPr b="0" lang="en-US" sz="6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Line 13"/>
          <p:cNvSpPr/>
          <p:nvPr/>
        </p:nvSpPr>
        <p:spPr>
          <a:xfrm>
            <a:off x="6108840" y="1790640"/>
            <a:ext cx="0" cy="965160"/>
          </a:xfrm>
          <a:prstGeom prst="line">
            <a:avLst/>
          </a:prstGeom>
          <a:ln cap="rnd" w="50760">
            <a:solidFill>
              <a:srgbClr val="fff9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Line 14"/>
          <p:cNvSpPr/>
          <p:nvPr/>
        </p:nvSpPr>
        <p:spPr>
          <a:xfrm>
            <a:off x="6108840" y="7149960"/>
            <a:ext cx="0" cy="965520"/>
          </a:xfrm>
          <a:prstGeom prst="line">
            <a:avLst/>
          </a:prstGeom>
          <a:ln cap="rnd" w="50760">
            <a:solidFill>
              <a:srgbClr val="fff900"/>
            </a:solidFill>
            <a:custDash>
              <a:ds d="100000" sp="1000"/>
            </a:custDash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" name="Rectangle 15"/>
          <p:cNvSpPr/>
          <p:nvPr/>
        </p:nvSpPr>
        <p:spPr>
          <a:xfrm>
            <a:off x="2730960" y="4499280"/>
            <a:ext cx="7047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ff00"/>
                </a:solidFill>
                <a:latin typeface="Calibri Italic"/>
              </a:rPr>
              <a:t>(on-going, evolving proces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" name="Rectangle 16"/>
          <p:cNvSpPr/>
          <p:nvPr/>
        </p:nvSpPr>
        <p:spPr>
          <a:xfrm>
            <a:off x="9601200" y="1682640"/>
            <a:ext cx="28954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eeff00"/>
                </a:solidFill>
                <a:latin typeface="Calibri Italic"/>
              </a:rPr>
              <a:t>(surveys &amp; </a:t>
            </a:r>
            <a:endParaRPr b="0" lang="en-US" sz="35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eeff00"/>
                </a:solidFill>
                <a:latin typeface="Calibri Italic"/>
              </a:rPr>
              <a:t>observations)</a:t>
            </a:r>
            <a:endParaRPr b="0" lang="en-US" sz="3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" name="Line 17"/>
          <p:cNvSpPr/>
          <p:nvPr/>
        </p:nvSpPr>
        <p:spPr>
          <a:xfrm flipH="1">
            <a:off x="3327480" y="952560"/>
            <a:ext cx="1536480" cy="12600"/>
          </a:xfrm>
          <a:prstGeom prst="line">
            <a:avLst/>
          </a:prstGeom>
          <a:ln w="76320">
            <a:solidFill>
              <a:srgbClr val="00e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" name="Line 18"/>
          <p:cNvSpPr/>
          <p:nvPr/>
        </p:nvSpPr>
        <p:spPr>
          <a:xfrm flipV="1">
            <a:off x="2946240" y="8928000"/>
            <a:ext cx="1562400" cy="12960"/>
          </a:xfrm>
          <a:prstGeom prst="line">
            <a:avLst/>
          </a:prstGeom>
          <a:ln w="76320">
            <a:solidFill>
              <a:srgbClr val="00e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" name="Line 19"/>
          <p:cNvSpPr/>
          <p:nvPr/>
        </p:nvSpPr>
        <p:spPr>
          <a:xfrm flipH="1">
            <a:off x="8902800" y="1714680"/>
            <a:ext cx="635040" cy="850680"/>
          </a:xfrm>
          <a:prstGeom prst="line">
            <a:avLst/>
          </a:prstGeom>
          <a:ln cap="rnd" w="50760">
            <a:solidFill>
              <a:srgbClr val="fff900"/>
            </a:solidFill>
            <a:custDash>
              <a:ds d="100000" sp="1000"/>
            </a:custDash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" name="Line 20"/>
          <p:cNvSpPr/>
          <p:nvPr/>
        </p:nvSpPr>
        <p:spPr>
          <a:xfrm flipH="1">
            <a:off x="2997360" y="7162920"/>
            <a:ext cx="520560" cy="939600"/>
          </a:xfrm>
          <a:prstGeom prst="line">
            <a:avLst/>
          </a:prstGeom>
          <a:ln cap="rnd" w="50760">
            <a:solidFill>
              <a:srgbClr val="fff900"/>
            </a:solidFill>
            <a:custDash>
              <a:ds d="100000" sp="1000"/>
            </a:custDash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" name="Line 21"/>
          <p:cNvSpPr/>
          <p:nvPr/>
        </p:nvSpPr>
        <p:spPr>
          <a:xfrm>
            <a:off x="1523880" y="6095880"/>
            <a:ext cx="0" cy="1625760"/>
          </a:xfrm>
          <a:prstGeom prst="line">
            <a:avLst/>
          </a:prstGeom>
          <a:ln w="76320">
            <a:solidFill>
              <a:srgbClr val="00e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" name="Line 22"/>
          <p:cNvSpPr/>
          <p:nvPr/>
        </p:nvSpPr>
        <p:spPr>
          <a:xfrm>
            <a:off x="9626760" y="4876920"/>
            <a:ext cx="2844720" cy="0"/>
          </a:xfrm>
          <a:prstGeom prst="line">
            <a:avLst/>
          </a:prstGeom>
          <a:ln w="25560">
            <a:solidFill>
              <a:srgbClr val="f4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Rectangle 23"/>
          <p:cNvSpPr/>
          <p:nvPr/>
        </p:nvSpPr>
        <p:spPr>
          <a:xfrm>
            <a:off x="9545040" y="4319280"/>
            <a:ext cx="988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e8"/>
                </a:solidFill>
                <a:latin typeface="Calibri Bold"/>
              </a:rPr>
              <a:t>2011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" name="Rectangle 24"/>
          <p:cNvSpPr/>
          <p:nvPr/>
        </p:nvSpPr>
        <p:spPr>
          <a:xfrm>
            <a:off x="11531880" y="4852800"/>
            <a:ext cx="9882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e8"/>
                </a:solidFill>
                <a:latin typeface="Calibri Bold"/>
              </a:rPr>
              <a:t>2012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Line 25"/>
          <p:cNvSpPr/>
          <p:nvPr/>
        </p:nvSpPr>
        <p:spPr>
          <a:xfrm flipV="1">
            <a:off x="11049120" y="3416400"/>
            <a:ext cx="0" cy="4394160"/>
          </a:xfrm>
          <a:prstGeom prst="line">
            <a:avLst/>
          </a:prstGeom>
          <a:ln w="76320">
            <a:solidFill>
              <a:srgbClr val="00e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1" descr=""/>
          <p:cNvPicPr/>
          <p:nvPr/>
        </p:nvPicPr>
        <p:blipFill>
          <a:blip r:embed="rId1"/>
          <a:srcRect l="50255" t="0" r="0" b="327"/>
          <a:stretch/>
        </p:blipFill>
        <p:spPr>
          <a:xfrm>
            <a:off x="660240" y="195120"/>
            <a:ext cx="6039000" cy="935064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2"/>
          <p:cNvSpPr/>
          <p:nvPr/>
        </p:nvSpPr>
        <p:spPr>
          <a:xfrm>
            <a:off x="8639280" y="4184640"/>
            <a:ext cx="4216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alibri Italic"/>
              </a:rPr>
              <a:t>brochure/guide for the crawl</a:t>
            </a:r>
            <a:endParaRPr b="0" lang="en-US" sz="4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Line 3"/>
          <p:cNvSpPr/>
          <p:nvPr/>
        </p:nvSpPr>
        <p:spPr>
          <a:xfrm flipH="1">
            <a:off x="6858000" y="4876920"/>
            <a:ext cx="1752480" cy="0"/>
          </a:xfrm>
          <a:prstGeom prst="line">
            <a:avLst/>
          </a:prstGeom>
          <a:ln w="50760">
            <a:solidFill>
              <a:srgbClr val="14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1" descr=""/>
          <p:cNvPicPr/>
          <p:nvPr/>
        </p:nvPicPr>
        <p:blipFill>
          <a:blip r:embed="rId1"/>
          <a:stretch/>
        </p:blipFill>
        <p:spPr>
          <a:xfrm>
            <a:off x="4680" y="-33480"/>
            <a:ext cx="13005000" cy="10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-406440" y="101520"/>
            <a:ext cx="1381752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900" spc="-1" strike="noStrike">
                <a:solidFill>
                  <a:srgbClr val="f400ff"/>
                </a:solidFill>
                <a:latin typeface="Calibri Bold"/>
              </a:rPr>
              <a:t>Ongoing Research Component</a:t>
            </a:r>
            <a:endParaRPr b="0" lang="en-US" sz="7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-216360" y="2158920"/>
            <a:ext cx="13169880" cy="7175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t the end of the crawl, guests will take a survey with open ended &amp; yes/no questions to gauge overall experience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 second survey will be sent out 6-8 weeks after crawl to see if any teachers actually used any of the ideas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 possible third survey will be sent out near the beginning of the next academic year (2011-2012)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urvey results will help shape Tech Crawl 2012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SzPct val="171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t’s an on-going process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1" descr=""/>
          <p:cNvPicPr/>
          <p:nvPr/>
        </p:nvPicPr>
        <p:blipFill>
          <a:blip r:embed="rId1"/>
          <a:stretch/>
        </p:blipFill>
        <p:spPr>
          <a:xfrm>
            <a:off x="1698480" y="-2573280"/>
            <a:ext cx="9606240" cy="12431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9:46:49Z</dcterms:created>
  <dc:creator/>
  <dc:description/>
  <cp:keywords/>
  <dc:language>en-US</dc:language>
  <cp:lastModifiedBy>\</cp:lastModifiedBy>
  <dcterms:modified xsi:type="dcterms:W3CDTF">2011-05-06T18:49:34Z</dcterms:modified>
  <cp:revision>7</cp:revision>
  <dc:subject/>
  <dc:title>Action Research Project</dc:title>
</cp:coreProperties>
</file>